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4DF-0D7C-4BE5-901E-310A1693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BC4-059B-418A-B350-C15D251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ECF-8901-4CEA-9366-69D1D861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363-0E82-485F-92EF-3E369503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174-D00B-4AC2-8849-6891370B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38E-9A28-479F-912C-D4DCC91E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2A3-87D5-414D-8776-927FC378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BAD-48C3-40DF-A781-A0E05CC5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61E-5A5A-431B-A0F4-6723B838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AFD-8888-46C6-BA51-28270C28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BBB-1709-4DEA-9DAE-628A71C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753-C11C-48A9-8F93-348E2C8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F75-6106-48B0-9F69-7F421D9E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EUR_location_NOR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com/imgres?imgurl=http://www.33ff.com/flags/XL_flags/Norway_flag.gif&amp;imgrefurl=http://www.33ff.com/flags/worldflags/Norway_flag.html&amp;h=240&amp;w=360&amp;sz=4&amp;tbnid=iDOXGJcEh6sOhM::&amp;tbnh=81&amp;tbnw=121&amp;prev=/images%3Fq%3Dnorway%2Bflag&amp;usg=__cCZOndZpg2tkdzn32XUDky59CXU=&amp;sa=X&amp;oi=image_result&amp;resnum=3&amp;ct=image&amp;cd=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newsimg.bbc.co.uk/media/images/39235000/jpg/_39235402_krone_203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gallery.photo.net/photo/4051811-lg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upload.wikimedia.org/wikipedia/commons/thumb/e/ed/Valdresflya-1994-lake.jpg/300px-Valdresflya-1994-lake.jpg&amp;imgrefurl=http://en.wikipedia.org/wiki/Mountain_ranges_of_Norway&amp;usg=__CqEpbsahpS3T_W1hQFY91nJ_LQk=&amp;h=199&amp;w=300&amp;sz=16&amp;hl=en&amp;start=12&amp;um=1&amp;tbnid=DvjwnkTRiO8zWM:&amp;tbnh=77&amp;tbnw=116&amp;prev=/images%3Fq%3Dmountain%2Branges%2Bof%2Bnorway%26um%3D1%26hl%3Den%26safe%3Dactive%26rlz%3D1T4IBMA_enUS312US312%26sa%3D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aqua-service.com/upload/images/jotunheimen.jpg&amp;imgrefurl=http://www.aqua-service.com/text.cfm%3Fpath%3D25%26id%3D48&amp;usg=__sIIFTjfHD1U0dqS9xFDDxCUYpEA=&amp;h=600&amp;w=900&amp;sz=120&amp;hl=en&amp;start=14&amp;um=1&amp;tbnid=kSu0Shs32ePmtM:&amp;tbnh=97&amp;tbnw=146&amp;prev=/images%3Fq%3Dthe%2Bjotunheimens%26um%3D1%26hl%3Den%26safe%3Dactive%26rlz%3D1T4IBMA_enUS312US312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en.wikipedia.org/wiki/File:Satellite_image_of_Norway_in_February_2003.jpg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en.wikipedia.org/wiki/File:PanoHardangerfjorden1.jpg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Composition of Nor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hors: Nathan Fox and Michael T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0080" y="579132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xth Grade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Period, Randolp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Location of Norwa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562720" y="1066680"/>
            <a:ext cx="51055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65217E-006 C 0.20504 -0.14477 0.41007 -0.28931 0.54202 -0.28191 C 0.67396 -0.27451 0.74688 -0.01341 0.79132 0.04441 E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way: Enchantment of the Wor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12, 20 24, 53, 54, 104-109, 114-1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way in Pi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books.google.com/books?id=1GlgQGDa4cgC&amp;pg=PA51&amp;lpg=PA51&amp;dq=mountain+ranges+of+Norway&amp;source=bl&amp;ots=bns7vqIXEh&amp;sig=4jAgfRctH2EeMPrNlXYpAKICjMw&amp;hl=en&amp;ei=O1KQSdW0E9-Btwfbi9mYCw&amp;sa=X&amp;oi=book_result&amp;resnum=9&amp;ct=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http://en.wikipedia.org/wiki/List_of_Norwegian_fj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rmation of Nor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: Norwe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cy: Norwegian K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4,805,4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s: 148,746 sq. miles (7%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Oslo (Largest City as w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://www.33ff.com/flags/worldflags/Norway_flag.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2743200"/>
            <a:ext cx="990360" cy="66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9051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81680" y="5105520"/>
            <a:ext cx="19814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 of Nor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way is western country of Scandina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for its fj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almost completely i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for its thousands of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Island:Hinno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53040" y="1219320"/>
            <a:ext cx="4504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Geography and Islands of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4572000"/>
            <a:ext cx="30099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47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3360" y="914400"/>
            <a:ext cx="2869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Water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03848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44792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ountain Ranges: The Jotunheimens and the Trollheimens; Glittertind is the highest mountain in Norway (8110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2057400"/>
            <a:ext cx="2743200" cy="1819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133720"/>
            <a:ext cx="2590920" cy="171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2133720"/>
            <a:ext cx="1576440" cy="178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4267080"/>
            <a:ext cx="487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jord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oves cut by glaciers that filled with melting water and flowed to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920" y="5292720"/>
            <a:ext cx="495288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9920" y="4114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st Fjord in Norway: Sognefjord (204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6172200" y="4876920"/>
            <a:ext cx="24955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: Vik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kings originated from Norway, Denmark, and Sweden, they were good sailo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mpire was about twice the size of Current Norway before it was defeated by Denmark in the 14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ikings.jpg"/>
          <p:cNvPicPr/>
          <p:nvPr/>
        </p:nvPicPr>
        <p:blipFill>
          <a:blip r:embed="rId2"/>
          <a:stretch/>
        </p:blipFill>
        <p:spPr>
          <a:xfrm>
            <a:off x="6477120" y="4419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BattleNorway.jpg"/>
          <p:cNvPicPr/>
          <p:nvPr/>
        </p:nvPicPr>
        <p:blipFill>
          <a:blip r:embed="rId3"/>
          <a:stretch/>
        </p:blipFill>
        <p:spPr>
          <a:xfrm>
            <a:off x="4952880" y="4191120"/>
            <a:ext cx="1343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: Danish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nish Rule started in the mid 1400s and ended in Napoleo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mark sided with Napoleon, forcing Norway to do so. Norway was handed over to Sweden in the Treaty of Kiel ending 400 years of Danish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peace1.jpg"/>
          <p:cNvPicPr/>
          <p:nvPr/>
        </p:nvPicPr>
        <p:blipFill>
          <a:blip r:embed="rId2"/>
          <a:stretch/>
        </p:blipFill>
        <p:spPr>
          <a:xfrm>
            <a:off x="7162920" y="4648320"/>
            <a:ext cx="102852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napoleon.jpg"/>
          <p:cNvPicPr/>
          <p:nvPr/>
        </p:nvPicPr>
        <p:blipFill>
          <a:blip r:embed="rId3"/>
          <a:stretch/>
        </p:blipFill>
        <p:spPr>
          <a:xfrm>
            <a:off x="762120" y="464832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: Folktales an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Norwegian stories had trolls in them, as well as including things about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folktales in No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in Norway is wonderful. Many Norwegian authors have won Nobel literature prizes and produced good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: Art and Mus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usic in Norway is folk music, sometimes played on crude ho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usic is class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s very ancient and originates from stone carvings in Norway in anci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famous artist in Norway is Edvard M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stedal glacier is the largest in No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ama river is the longest in No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bout 1650 miles of coast (not including fjords and b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300px-Lakelandscape800.jpg"/>
          <p:cNvPicPr/>
          <p:nvPr/>
        </p:nvPicPr>
        <p:blipFill>
          <a:blip r:embed="rId2"/>
          <a:stretch/>
        </p:blipFill>
        <p:spPr>
          <a:xfrm>
            <a:off x="990720" y="4952880"/>
            <a:ext cx="1523880" cy="1105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jostedal-glacier.jpg"/>
          <p:cNvPicPr/>
          <p:nvPr/>
        </p:nvPicPr>
        <p:blipFill>
          <a:blip r:embed="rId3"/>
          <a:stretch/>
        </p:blipFill>
        <p:spPr>
          <a:xfrm>
            <a:off x="3124080" y="49528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10:13Z</dcterms:created>
  <dc:creator>nathanfox</dc:creator>
  <dc:description/>
  <dc:language>en-US</dc:language>
  <cp:lastModifiedBy>John</cp:lastModifiedBy>
  <dcterms:modified xsi:type="dcterms:W3CDTF">2009-02-12T01:18:28Z</dcterms:modified>
  <cp:revision>7</cp:revision>
  <dc:subject/>
  <dc:title>The Composition of Norway</dc:title>
</cp:coreProperties>
</file>